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0ED-DB89-4C05-BE0A-3BA1E9FF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E5F-E684-4CF0-BEC6-196244D0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BE0-377E-4B24-8E4A-FA4A6B71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BBC-2B1F-41C6-8280-070D281B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0E7-2ED7-4AB9-BC11-D9EEC3BF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FFD-9BC1-4264-8D69-9DE2F4E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A0F-9221-485F-A18B-341CAA77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6C9-D3BB-4ED0-8B22-EB5A946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F0B-50A1-4589-8E42-346F7A5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ECA-7CF5-4677-A117-A83B570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128-6582-41F3-A96E-1AE5C5B5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F65-382F-4C4B-ABA4-7A85D27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4F404-30A4-4B89-BABF-29DA21CF47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02604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6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8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8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7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ymond.Simms</dc:creator>
  <dc:description/>
  <dc:language>en-US</dc:language>
  <cp:lastModifiedBy>sean.prucha</cp:lastModifiedBy>
  <cp:revision>0</cp:revision>
  <dc:subject/>
  <dc:title>Slide 1</dc:title>
</cp:coreProperties>
</file>