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1D3-D81B-4199-85B3-CBB112C2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0EA-96CC-4ADD-B9D1-D6FADA52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FB9-0FC1-4DC3-B936-C06241F5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44F-ACA9-44ED-9F8D-E8E571D7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0FB-905F-44E0-8753-86C628A0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6BD-8B44-4254-B559-EC59AA7F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5DC-520E-474E-A743-3584786E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7AE-0991-443C-953F-52DD039E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311-9E66-4AE1-A5B5-0B5573C4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6CA-A587-4218-972D-09AEDB36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9FD-D31A-4606-AE81-D9F377FA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245-0C46-4C62-9673-B7B61D64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0320" indent="-3103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581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F3BE31-496D-490D-8F36-524E942637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02604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6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58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24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1520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5816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7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64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ymond.Simms</dc:creator>
  <dc:description/>
  <dc:language>en-US</dc:language>
  <cp:lastModifiedBy>sean.prucha</cp:lastModifiedBy>
  <cp:revision>0</cp:revision>
  <dc:subject/>
  <dc:title>Slide 1</dc:title>
</cp:coreProperties>
</file>